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575-120E-433C-B1B3-E1EC370F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6C7-58C6-487D-8FD0-CD72689E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BA3-91F7-440F-9281-2D68FFA6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AD9-D8D1-435D-808C-47F09351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AD4-A723-4822-9D1C-F8ECADEB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2B5-7E6C-4E9F-B253-D5E723DC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0FA-CF37-431E-98B3-E14303C9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196-1E91-4D42-9449-4E26B9B3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4E6-FB0E-428E-9873-0E7D8FBC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A45-0C2F-4200-B964-76D7FBFA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558-DE67-4D2E-9A30-654FC71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525-015A-4C88-8799-942609C8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5C65-F85D-414D-912F-722267D09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9240" y="160020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be0e3"/>
                </a:solidFill>
                <a:latin typeface="Agency FB"/>
              </a:rPr>
              <a:t>Do Your Job Well, Ple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31560" y="5029200"/>
            <a:ext cx="30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8c9ce"/>
                </a:solidFill>
                <a:latin typeface="Agency FB"/>
              </a:rPr>
              <a:t>Chris H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474840"/>
            <a:ext cx="731376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360" y="2114640"/>
            <a:ext cx="8153280" cy="2627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84360" y="457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gency FB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5360" y="2114640"/>
            <a:ext cx="8153280" cy="262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360" y="457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gency FB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5360" y="2114640"/>
            <a:ext cx="8153280" cy="262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284360" y="457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gency FB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5360" y="2114640"/>
            <a:ext cx="8153280" cy="262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84360" y="457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gency FB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285080" y="457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gency FB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878120"/>
            <a:ext cx="86868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89040" y="457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gency FB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3440" y="1295280"/>
            <a:ext cx="647712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474840"/>
            <a:ext cx="731376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474840"/>
            <a:ext cx="731376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00440" y="1066680"/>
            <a:ext cx="3543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24160" y="2057400"/>
            <a:ext cx="2695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474840"/>
            <a:ext cx="731376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30400" y="1787400"/>
            <a:ext cx="32832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76200" y="533520"/>
            <a:ext cx="659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gency FB"/>
              </a:rPr>
              <a:t>These days, everything said by and about someone goes on their permanent re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2520" y="5410080"/>
            <a:ext cx="64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gency FB"/>
              </a:rPr>
              <a:t>So, please, do your job, and do it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95600" y="847800"/>
            <a:ext cx="5752800" cy="5162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08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21280" y="278748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gency FB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2286000"/>
            <a:ext cx="7619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gency FB"/>
              </a:rPr>
              <a:t>“</a:t>
            </a:r>
            <a:r>
              <a:rPr b="1" lang="en-US" sz="3200" spc="-1" strike="noStrike">
                <a:solidFill>
                  <a:srgbClr val="bbe0e3"/>
                </a:solidFill>
                <a:latin typeface="Agency FB"/>
              </a:rPr>
              <a:t>Why isn’t Call of Duty – with all of its perfectly tuned mechanics and dynamics – actually about du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gency FB"/>
              </a:rPr>
              <a:t>Or why isn't Medal of Honor actually about hon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gency FB"/>
              </a:rPr>
              <a:t>Christ, imagine what it would be worth to you if you could put honor in a box and sell it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57760" y="45720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67320" y="594360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8c9ce"/>
                </a:solidFill>
                <a:latin typeface="Agency FB"/>
              </a:rPr>
              <a:t>- Clint H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70240" y="609480"/>
            <a:ext cx="26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8c9ce"/>
                </a:solidFill>
                <a:uFillTx/>
                <a:latin typeface="Agency FB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8320" y="289548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gency FB"/>
              </a:rPr>
              <a:t>These are my opin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220968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801"/>
              </a:spcAft>
              <a:buClr>
                <a:srgbClr val="bbe0e3"/>
              </a:buClr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gency FB"/>
              </a:rPr>
              <a:t>Journalism is an important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8080" y="53352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8c9ce"/>
                </a:solidFill>
                <a:latin typeface="Agency FB"/>
              </a:rPr>
              <a:t>My Rant, Abrid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34290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801"/>
              </a:spcAft>
              <a:buClr>
                <a:srgbClr val="bbe0e3"/>
              </a:buClr>
              <a:buFont typeface="Agency FB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gency FB"/>
              </a:rPr>
              <a:t>Your reporting impacts people, personally and professio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87692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801"/>
              </a:spcAft>
              <a:buClr>
                <a:srgbClr val="bbe0e3"/>
              </a:buClr>
              <a:buFont typeface="Agency FB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gency FB"/>
              </a:rPr>
              <a:t>With great power comes great respon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72160" y="53352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8c9ce"/>
                </a:solidFill>
                <a:latin typeface="Agency FB"/>
              </a:rPr>
              <a:t>My Rant, Exempl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474840"/>
            <a:ext cx="731520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74840"/>
            <a:ext cx="731376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474840"/>
            <a:ext cx="731376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6:40:30Z</dcterms:created>
  <dc:creator>Chris Hecker</dc:creator>
  <dc:description/>
  <dc:language>en-US</dc:language>
  <cp:lastModifiedBy>Chris Hecker</cp:lastModifiedBy>
  <dcterms:modified xsi:type="dcterms:W3CDTF">2009-03-27T17:12:49Z</dcterms:modified>
  <cp:revision>40</cp:revision>
  <dc:subject/>
  <dc:title>Slide 1</dc:title>
</cp:coreProperties>
</file>